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dd4100"/>
                </a:solidFill>
                <a:latin typeface="Arial"/>
              </a:rPr>
              <a:t>Click to move the slide</a:t>
            </a:r>
            <a:endParaRPr b="0" lang="en-US" sz="3300" spc="-1" strike="noStrike">
              <a:solidFill>
                <a:srgbClr val="dd41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8B79F-285C-4426-9E92-0F1DE021C75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17E97C-EC03-4554-A3F0-0816F0129A70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4B9C7-0AD4-4EAD-B917-6CBEE79CF388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58C11-A306-42AD-8F28-43F12345AA5E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E8E42-0F97-4933-A18F-23B6E0300263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5E074-499B-4AA2-BA20-5AFB349D5F24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FFD9A3-98B8-419D-A2BD-8F406B9D467B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B967E-2C79-4FA9-967C-86110A0724E7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84F61B-F895-4DFE-B49C-BB3156E492D1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F9C959-E09F-440D-A875-80346414C2E7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E9D79B-4CB8-4FA0-B721-1682020E9DAC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1630B6-9E29-4CC8-AC52-1425CA71AC18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77E72-F4BD-4899-9B91-EDFDAB0BF1E3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EF515-AE86-46A5-BBBD-2F46C58BD089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4B707D-6622-41EB-93DD-D9B4734CB5E2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52EC86-EB35-4FAF-97CD-0254E60626FC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FF6B-4211-4BDA-A77D-668D04AD9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0000" y="295812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141F-70A3-483B-8024-5B6AA11B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376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176F-38F1-4A5E-9612-D29E0DBF7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296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8628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000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296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8628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9A9B-E564-4252-8A52-5FBF7852C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4FA8-754F-4024-BEE1-3CC25A9B3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5580-5F74-4D93-812B-7F7D9213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DB5C-347F-4481-8111-35DC391A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4330-C2EE-4B05-812C-6FB5DF67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D6EE-AD0A-4FD1-8308-C47A7475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60000" y="179280"/>
            <a:ext cx="935532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3472-0CD8-4001-930E-9AD0AA2F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2C02-2BB0-4653-B6B4-1F7D319E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4C36-44FA-430D-B971-4F1251C8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5376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C889-65FC-4E18-BB1E-27110AC2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CF96-BB44-4762-9C5A-4E06E576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0000" y="295812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F481-175D-4BB8-8327-BC30FE11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5376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FDC7-8E59-43DF-AAAF-2AE697672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2296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628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6000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2296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8628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428C-67C8-42CB-8BE9-9133200FE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ED4F-8932-45AE-8172-D5E03DA8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480D-28C5-43CB-8AE0-CCCD77FF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7E74-0140-4F3B-9957-9BBB7BE1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0000" y="179280"/>
            <a:ext cx="935532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5103-4F14-45C4-A847-BD50FC41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325C-EF51-4C0A-9F78-3E73B91C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376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2DCB-42FA-4427-B89C-9F5FAAD5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954E-6E59-41DF-BD87-F6EA5EE4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 flipH="1" flipV="1">
            <a:off x="0" y="4500720"/>
            <a:ext cx="10080720" cy="1170000"/>
          </a:xfrm>
          <a:prstGeom prst="flowChartDocument">
            <a:avLst/>
          </a:prstGeom>
          <a:gradFill rotWithShape="0">
            <a:gsLst>
              <a:gs pos="0">
                <a:srgbClr val="009bdd"/>
              </a:gs>
              <a:gs pos="100000">
                <a:srgbClr val="77caee"/>
              </a:gs>
            </a:gsLst>
            <a:lin ang="0"/>
          </a:gradFill>
          <a:ln w="0">
            <a:noFill/>
          </a:ln>
          <a:effectLst>
            <a:outerShdw dist="10800" dir="5400000" blurRad="0" rotWithShape="0">
              <a:srgbClr val="009b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1618920"/>
            <a:ext cx="899460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dd41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dd41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0000" y="2879280"/>
            <a:ext cx="9355320" cy="1614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49000"/>
          </a:bodyPr>
          <a:p>
            <a:pPr marL="16776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1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2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3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4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5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6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6000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19280" y="5219640"/>
            <a:ext cx="32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8000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E81B4-33F3-4A85-8388-F5CADCC322E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0" y="0"/>
            <a:ext cx="10077480" cy="720720"/>
          </a:xfrm>
          <a:prstGeom prst="rect">
            <a:avLst/>
          </a:prstGeom>
          <a:gradFill rotWithShape="0">
            <a:gsLst>
              <a:gs pos="0">
                <a:srgbClr val="009bdd"/>
              </a:gs>
              <a:gs pos="100000">
                <a:srgbClr val="77caee"/>
              </a:gs>
            </a:gsLst>
            <a:lin ang="0"/>
          </a:gradFill>
          <a:ln w="0">
            <a:noFill/>
          </a:ln>
          <a:effectLst>
            <a:outerShdw dist="10800" dir="5400000" blurRad="0" rotWithShape="0">
              <a:srgbClr val="009b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3240" y="5040360"/>
            <a:ext cx="10077480" cy="631800"/>
          </a:xfrm>
          <a:prstGeom prst="rect">
            <a:avLst/>
          </a:prstGeom>
          <a:gradFill rotWithShape="0">
            <a:gsLst>
              <a:gs pos="0">
                <a:srgbClr val="009bdd"/>
              </a:gs>
              <a:gs pos="100000">
                <a:srgbClr val="77caee"/>
              </a:gs>
            </a:gsLst>
            <a:lin ang="0"/>
          </a:gradFill>
          <a:ln w="0">
            <a:noFill/>
          </a:ln>
          <a:effectLst>
            <a:outerShdw dist="10800" dir="5400000" blurRad="0" rotWithShape="0">
              <a:srgbClr val="009b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6000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419280" y="5219640"/>
            <a:ext cx="32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38000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1FA08-CF0A-49F6-B6DA-A7546242E1F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0360" y="1618920"/>
            <a:ext cx="77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dd4100"/>
                </a:solidFill>
                <a:latin typeface="Times New Roman"/>
              </a:rPr>
              <a:t>«Флорариум — мини — сад!»</a:t>
            </a:r>
            <a:endParaRPr b="0" lang="en-US" sz="4000" spc="-1" strike="noStrike">
              <a:solidFill>
                <a:srgbClr val="dd4100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7199280" y="3419640"/>
            <a:ext cx="270036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 fontScale="83000"/>
          </a:bodyPr>
          <a:p>
            <a:pPr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ца 3 «В»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рова Варва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644351-EE05-4EC6-A450-AEC315775F1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E4C10-C6D8-4AAC-847C-422B1D6CCD1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0" y="0"/>
            <a:ext cx="10080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Примерно 1 см. заполнила слоем земли, утрамбовала руками. При помощи толстой кисточки смахнула пыль и частички земли со стекол емк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82480" y="720720"/>
            <a:ext cx="2478240" cy="4319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2"/>
          <a:stretch/>
        </p:blipFill>
        <p:spPr>
          <a:xfrm>
            <a:off x="3687840" y="720720"/>
            <a:ext cx="2611440" cy="4319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3"/>
          <a:stretch/>
        </p:blipFill>
        <p:spPr>
          <a:xfrm>
            <a:off x="7020000" y="720720"/>
            <a:ext cx="2519280" cy="428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7EF898-8231-4294-A9DC-1CD57396B67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82E001-165E-4121-A1B7-33834B7A98C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"/>
          <p:cNvSpPr/>
          <p:nvPr/>
        </p:nvSpPr>
        <p:spPr>
          <a:xfrm>
            <a:off x="539640" y="179280"/>
            <a:ext cx="91807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Затем поочередно засыпала в емкость песок белого и голубого цвет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7157880" y="720720"/>
            <a:ext cx="2562480" cy="4319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539640" y="720720"/>
            <a:ext cx="2578320" cy="4319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3"/>
          <a:stretch/>
        </p:blipFill>
        <p:spPr>
          <a:xfrm>
            <a:off x="3780000" y="720720"/>
            <a:ext cx="270000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D098B8-CC54-41DB-B64D-C56EFEEB4AA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F726E8-E391-48EE-9D02-42B8343A99C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"/>
          <p:cNvSpPr/>
          <p:nvPr/>
        </p:nvSpPr>
        <p:spPr>
          <a:xfrm>
            <a:off x="0" y="0"/>
            <a:ext cx="1008072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NSimSun"/>
              </a:rPr>
              <a:t>Следующим этапом, я заполнила наш мини — сад остатками земли, оставив, примерно 2 см. от края емкости, чтобы дополнить украшением нашу композицию. Проделала небольшое отверстие ложкой в земле для нашего растения. Стряхнула лишнюю землю с корня кактуса и аккуратно посадила в заготовленное отверсти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36360" y="720720"/>
            <a:ext cx="2303640" cy="4319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2519280" y="720720"/>
            <a:ext cx="2340000" cy="4319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3"/>
          <a:stretch/>
        </p:blipFill>
        <p:spPr>
          <a:xfrm>
            <a:off x="5040360" y="720720"/>
            <a:ext cx="2340000" cy="4319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4"/>
          <a:stretch/>
        </p:blipFill>
        <p:spPr>
          <a:xfrm>
            <a:off x="7574040" y="720720"/>
            <a:ext cx="250668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26B614-2E7C-40A8-8470-59EC10063A8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028643-2240-4113-A70B-FF8D0F43F09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0" y="0"/>
            <a:ext cx="100807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Далее поверхность земли еще раз присыпала декоративным цветным песком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выложила ракушки, мох. Таким образом, я создавала берег мор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3780000" y="720720"/>
            <a:ext cx="2519280" cy="4319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7020000" y="720720"/>
            <a:ext cx="2519280" cy="4319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3"/>
          <a:stretch/>
        </p:blipFill>
        <p:spPr>
          <a:xfrm>
            <a:off x="539640" y="720720"/>
            <a:ext cx="251964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3B8724-110D-4DC5-AE84-3EE93C25F8D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E0690-57A0-472F-AA7C-43BDA307C2C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"/>
          <p:cNvSpPr/>
          <p:nvPr/>
        </p:nvSpPr>
        <p:spPr>
          <a:xfrm>
            <a:off x="0" y="0"/>
            <a:ext cx="1008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 меня получился свой собственный оригинальный кусочек живой природы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не кажется, что каждый, кто увидит этот растительный мир, непременно захочет сделать такое же чудо!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3419640" y="720720"/>
            <a:ext cx="3419280" cy="4319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179280" y="720720"/>
            <a:ext cx="2880000" cy="4319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3"/>
          <a:stretch/>
        </p:blipFill>
        <p:spPr>
          <a:xfrm>
            <a:off x="7199280" y="720720"/>
            <a:ext cx="270036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2D652C-6D85-466C-8799-D38AED129B3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1A236C-DCF0-4CA8-AD12-22BAA5971B2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179280" y="539640"/>
            <a:ext cx="9539280" cy="47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В своей работе я хотела создать максимально комфортные условия для растения и красивую композицию, для того чтобы украсить интерьер моей комнаты. В итоге получился кусочек морского берега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Глядя на свой мини - сад, я вспоминаю семейное путешествие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Цель проекта достигнута. Гипотеза доказан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В домашних условиях можно создать прекрасный мини — сад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Спасибо за внимание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163F2-D7A3-4C9B-96A6-9A51E983800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18F57-7BDC-4620-AE9F-B7465DF0980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"/>
          <p:cNvSpPr/>
          <p:nvPr/>
        </p:nvSpPr>
        <p:spPr>
          <a:xfrm>
            <a:off x="179280" y="0"/>
            <a:ext cx="55800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640" bIns="45000" anchor="t">
            <a:normAutofit/>
          </a:bodyPr>
          <a:p>
            <a:pPr>
              <a:lnSpc>
                <a:spcPct val="93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ктуальность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Каждый из нас любит цветы. Многие выращивают их дома. Зачастую, цветы требуют тщательный уход. В настоящее время люди создают флорариумы, чтобы посадить растение и при этом не прилагать больших усилий для ухода за ни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лорариум (мини - сад) – композиция из маленьких растений, камней, песка, искусственного декора, помещенной в прозрачную емкость (из стекла или пластик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ход и наблюдение за мини - садом интересен и взрослым, и детям. При его создании можно проявить неограниченную фантазию. Именно поэтому меня заинтересовала эта те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5759280" y="736560"/>
            <a:ext cx="4319640" cy="43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71F7A-FDD3-44E8-8F1F-987FCD92263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DB280-6409-48E0-AF31-80B9A135FD0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720720" y="720720"/>
            <a:ext cx="899964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здание флорариума и освоение техники создания композиций для мини - сад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зучить информацию по теме исслед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зучить особенности создания композиций для мини - сад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оздать флорариум «В гостях у моря!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ини-сад в домашних условия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лорариу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ый продукт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крытый флорариум «В гостях у моря!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домашних условиях возможно создать мини-са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сследования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литературы, наблюдение, интервью, эксперимен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66874B-8BEC-4B56-95A2-910F776AEEE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20CE49-281B-43AF-8ABB-E7C90464608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179280" y="360360"/>
            <a:ext cx="972036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«Возможно ли создать мини — сад в домашних условиях?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7105680" y="725400"/>
            <a:ext cx="2427120" cy="4310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720720" y="1800360"/>
            <a:ext cx="594036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C7DB1-17C9-4FED-8FC3-55DDFCE4D7E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7F3771-AE9C-459D-B9DE-68A88250736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"/>
          <p:cNvSpPr/>
          <p:nvPr/>
        </p:nvSpPr>
        <p:spPr>
          <a:xfrm>
            <a:off x="179280" y="900000"/>
            <a:ext cx="953928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NSimSun"/>
              </a:rPr>
              <a:t>Флорариум — это прозрачная ёмкость из стекла или пластика закрытого, частично закрытого или открытого типа, в которую помещаются раст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NSimSun"/>
              </a:rPr>
              <a:t>Можно создавать в стеклянном сосуде настоящие природные зоны в миниатюре: горы, пустыни, тропики, море или частичку дремучего лес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NSimSun"/>
              </a:rPr>
              <a:t>По сути, флорариум — это тот же аквариум, но, вместо воды и рыбок, в него заполняют камни, песок, различные элементы для декора и растения маленького разме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FD465-6918-43A4-B9DC-ACBF28146FD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15FD04-2292-4D07-9E9F-B5684ABCB49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179280" y="720720"/>
            <a:ext cx="9720360" cy="42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 algn="just"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лорариумы бываю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закрыт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мкость плотно закрывается крышкой или дверц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ткрыт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них есть отверстие в верхней части или сбок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ост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х еще называют мини-флорариумами. Они отличаются простото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композиции, небольшим объемом емкости и количеством растений (1-3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лож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и имитируют кусочек леса, пустыни, гор, джунглей, сада, мор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одвес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х подвешивают с помощью крючков и верев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стен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и напоминают «живые» картины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стольны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Они размещаются на горизонтальной поверхности (на столе, тумбочке, подоконнике, полке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поль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ми обычно декорируют общественные места: рестораны, торговые центры, салоны, оте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306608-0A1D-462C-9B03-05466B26552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1780A3-DFF8-4EC0-9871-D3C8116BDB2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"/>
          <p:cNvSpPr/>
          <p:nvPr/>
        </p:nvSpPr>
        <p:spPr>
          <a:xfrm>
            <a:off x="179280" y="900000"/>
            <a:ext cx="972036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Для самостоятельного изготовления флорариума Вам понадобится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прозрачная емкость (стеклянная или пластиковая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земл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песок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растени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декоративные элементы. Это могут быть мхи, цветное стекло, камни, ракушки, различные фигурки, природные материалы (веточки, сухоцветы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1D358-E189-4E0D-AD33-8A74848F1F0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11A3D6-9498-4E31-B84A-12A86ED67F6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179280" y="720720"/>
            <a:ext cx="9720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Советы по уходу за мини — садом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не оставляйте флорариум под прямыми солнечными лучам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регулярно очищайте растения от пожухлых листьев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не перебарщивайте с поливом, можно опрыскивать растение при помощи пульверизатор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почву нужно менять каждые 2-3 год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если растение чрезмерно подросло нужно его обновить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A8A70-C9FB-4CC3-B74E-4EEEAC447F1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BA029-A31E-4DE3-844F-CF0FEF084C3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0" y="6480"/>
            <a:ext cx="100807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Для создания флорариума «В гостях у моря!» я выбрала прозрачную стеклянную емкость, геометрической формы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440000" y="720720"/>
            <a:ext cx="2700360" cy="4319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5219640" y="720720"/>
            <a:ext cx="4319640" cy="431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26T13:05:50Z</dcterms:created>
  <dc:creator/>
  <dc:description/>
  <dc:language>en-US</dc:language>
  <cp:lastModifiedBy>Админ</cp:lastModifiedBy>
  <dcterms:modified xsi:type="dcterms:W3CDTF">2024-01-30T07:51:48Z</dcterms:modified>
  <cp:revision>13</cp:revision>
  <dc:subject/>
  <dc:title>Blue Curve</dc:title>
</cp:coreProperties>
</file>