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dd4100"/>
                </a:solidFill>
                <a:latin typeface="Arial"/>
              </a:rPr>
              <a:t>Click to move the slide</a:t>
            </a:r>
            <a:endParaRPr b="0" lang="en-US" sz="3300" spc="-1" strike="noStrike">
              <a:solidFill>
                <a:srgbClr val="dd41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3DAC38-8ADD-4B71-85C9-4445BCCE0CD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CE4802-F706-4E5F-A312-8D7B782A2E7C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CCBE26-0CF2-48AC-8770-B39880F052C4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C80AFD-8C6F-4ACB-93DC-6B25A6B504CE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AA3130-F74C-4593-A028-7B41F359D3D4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FF1CEB-BDA3-4BB8-97D5-02D4F57000F5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82BF06-345B-440C-8E4C-48119A949C53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8CA627-E785-4D35-97EE-E99FB20A0AB6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421AA9-0F5E-456F-8F47-E9DBB95D5D7E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1DFA95-C888-4F77-A55C-BB83A702F5D3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5F5CC2-9F78-4468-B59E-DFCB658F6F6D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615357-AE7E-4F0E-8E92-5BA70D647DF9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9CEE71-FAFC-499E-AF62-4AF7899AA646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BB1A2E-BE02-402E-9E45-9F24DA7F88EE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B97298-4371-4DF8-B19D-D9948411E2AC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ED1F2A-00B8-48B3-A589-E937BE12C287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307C-8DA4-42D4-92D6-5E6044EA5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93553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0000" y="2958120"/>
            <a:ext cx="93553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4E7C-3574-4576-B3B3-29EF746F1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60000" y="295812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3760" y="295812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9A73-98EF-4AA0-989C-68D129854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22960" y="107964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86280" y="107964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0000" y="295812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22960" y="295812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86280" y="295812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297E-2465-4757-AA73-BA50D3158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0803E-6926-44E7-8025-DC8EA3740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60000" y="1079640"/>
            <a:ext cx="935532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F0107-25A5-4F0A-A1A9-F17145055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935532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8BA90-D2E2-4072-BDB4-313C0EBBF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FB737-17E7-4EBA-A499-D8D270379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111D7-0840-49A0-81F0-3549FFA02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60000" y="179280"/>
            <a:ext cx="935532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570FD-A713-4E4E-93D2-7593BFA76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60000" y="295812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06CD5-476E-4C41-96F5-259DE984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60000" y="1079640"/>
            <a:ext cx="935532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42B7-C877-43C9-8AF7-A7A795E9F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53760" y="295812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CBDA4-E6BD-472E-B0F1-CF150CBD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60000" y="2958120"/>
            <a:ext cx="93553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0E252-8166-4AB3-9474-92825232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93553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0000" y="2958120"/>
            <a:ext cx="93553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C3FEF-9D54-4120-9283-77F19006B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60000" y="295812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53760" y="295812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74F84-D70E-42ED-B4AF-5005AFBFB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22960" y="107964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6280" y="107964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60000" y="295812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22960" y="295812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86280" y="295812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53523-6AF7-4AC1-868B-DF186085A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935532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03EE-76B9-40FE-8626-93BB76CE8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3508-37F7-4C3D-9579-E1A42D3DF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78F3-EA8F-4051-99A3-4F9DA7FCA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0000" y="179280"/>
            <a:ext cx="935532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AB4D-6C52-42FF-8A4D-BB4B40E29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60000" y="295812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3C8B-F858-4403-A19D-6B236E08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3760" y="295812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EA0D-DCE1-4775-BE7C-936B77BA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0000" y="2958120"/>
            <a:ext cx="93553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26AD-6920-4B8B-B761-5AB102FC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 flipH="1" flipV="1">
            <a:off x="0" y="4500720"/>
            <a:ext cx="10080720" cy="1170000"/>
          </a:xfrm>
          <a:prstGeom prst="flowChartDocument">
            <a:avLst/>
          </a:prstGeom>
          <a:gradFill rotWithShape="0">
            <a:gsLst>
              <a:gs pos="0">
                <a:srgbClr val="009bdd"/>
              </a:gs>
              <a:gs pos="100000">
                <a:srgbClr val="77caee"/>
              </a:gs>
            </a:gsLst>
            <a:lin ang="0"/>
          </a:gradFill>
          <a:ln w="0">
            <a:noFill/>
          </a:ln>
          <a:effectLst>
            <a:outerShdw dist="10800" dir="5400000" blurRad="0" rotWithShape="0">
              <a:srgbClr val="009b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1618920"/>
            <a:ext cx="8994600" cy="10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dd41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dd41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60000" y="2879280"/>
            <a:ext cx="9355320" cy="1614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49000"/>
          </a:bodyPr>
          <a:p>
            <a:pPr marL="16776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1" marL="167760" indent="-16776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2" marL="167760" indent="-16776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3" marL="167760" indent="-16776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4" marL="167760" indent="-16776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5" marL="167760" indent="-16776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6" marL="167760" indent="-16776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6000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419280" y="5219640"/>
            <a:ext cx="32353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38000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481730-57D2-40CE-8A80-CBB02A5A00D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"/>
          <p:cNvSpPr/>
          <p:nvPr/>
        </p:nvSpPr>
        <p:spPr>
          <a:xfrm>
            <a:off x="0" y="0"/>
            <a:ext cx="10077480" cy="720720"/>
          </a:xfrm>
          <a:prstGeom prst="rect">
            <a:avLst/>
          </a:prstGeom>
          <a:gradFill rotWithShape="0">
            <a:gsLst>
              <a:gs pos="0">
                <a:srgbClr val="009bdd"/>
              </a:gs>
              <a:gs pos="100000">
                <a:srgbClr val="77caee"/>
              </a:gs>
            </a:gsLst>
            <a:lin ang="0"/>
          </a:gradFill>
          <a:ln w="0">
            <a:noFill/>
          </a:ln>
          <a:effectLst>
            <a:outerShdw dist="10800" dir="5400000" blurRad="0" rotWithShape="0">
              <a:srgbClr val="009b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3240" y="5040360"/>
            <a:ext cx="10077480" cy="631800"/>
          </a:xfrm>
          <a:prstGeom prst="rect">
            <a:avLst/>
          </a:prstGeom>
          <a:gradFill rotWithShape="0">
            <a:gsLst>
              <a:gs pos="0">
                <a:srgbClr val="009bdd"/>
              </a:gs>
              <a:gs pos="100000">
                <a:srgbClr val="77caee"/>
              </a:gs>
            </a:gsLst>
            <a:lin ang="0"/>
          </a:gradFill>
          <a:ln w="0">
            <a:noFill/>
          </a:ln>
          <a:effectLst>
            <a:outerShdw dist="10800" dir="5400000" blurRad="0" rotWithShape="0">
              <a:srgbClr val="009b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60000" y="1079640"/>
            <a:ext cx="935532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6000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419280" y="5219640"/>
            <a:ext cx="32353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38000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E02BFD-068D-4332-82F4-953DCCDC81D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0360" y="1618920"/>
            <a:ext cx="77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dd4100"/>
                </a:solidFill>
                <a:latin typeface="Times New Roman"/>
              </a:rPr>
              <a:t>«Флорариум — мини — сад!»</a:t>
            </a:r>
            <a:endParaRPr b="0" lang="en-US" sz="4000" spc="-1" strike="noStrike">
              <a:solidFill>
                <a:srgbClr val="dd4100"/>
              </a:solidFill>
              <a:latin typeface="Arial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7199280" y="3419640"/>
            <a:ext cx="270036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 fontScale="83000"/>
          </a:bodyPr>
          <a:p>
            <a:pPr>
              <a:lnSpc>
                <a:spcPct val="93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ица 3 «В» кла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трова Варва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933233-51A1-456A-8BBB-B4B7747B1B02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08A8EF-E104-443D-B5C9-9A444B1CE66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"/>
          <p:cNvSpPr/>
          <p:nvPr/>
        </p:nvSpPr>
        <p:spPr>
          <a:xfrm>
            <a:off x="0" y="0"/>
            <a:ext cx="100807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NSimSun"/>
              </a:rPr>
              <a:t>Примерно 1 см. заполнила слоем земли, утрамбовала руками. При помощи толстой кисточки смахнула пыль и частички земли со стекол емк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582480" y="720720"/>
            <a:ext cx="2478240" cy="4319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"/>
          <p:cNvPicPr/>
          <p:nvPr/>
        </p:nvPicPr>
        <p:blipFill>
          <a:blip r:embed="rId2"/>
          <a:stretch/>
        </p:blipFill>
        <p:spPr>
          <a:xfrm>
            <a:off x="3687840" y="720720"/>
            <a:ext cx="2611440" cy="4319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3"/>
          <a:stretch/>
        </p:blipFill>
        <p:spPr>
          <a:xfrm>
            <a:off x="7020000" y="720720"/>
            <a:ext cx="2519280" cy="428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5522D5-E15E-44A0-8CC2-D1BA535ED8AC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31AA68-0831-4E63-BA28-3B16A1A7F1F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"/>
          <p:cNvSpPr/>
          <p:nvPr/>
        </p:nvSpPr>
        <p:spPr>
          <a:xfrm>
            <a:off x="539640" y="179280"/>
            <a:ext cx="91807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NSimSun"/>
              </a:rPr>
              <a:t>Затем поочередно засыпала в емкость песок белого и голубого цвет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7157880" y="720720"/>
            <a:ext cx="2562480" cy="4319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"/>
          <p:cNvPicPr/>
          <p:nvPr/>
        </p:nvPicPr>
        <p:blipFill>
          <a:blip r:embed="rId2"/>
          <a:stretch/>
        </p:blipFill>
        <p:spPr>
          <a:xfrm>
            <a:off x="539640" y="720720"/>
            <a:ext cx="2578320" cy="4319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3"/>
          <a:stretch/>
        </p:blipFill>
        <p:spPr>
          <a:xfrm>
            <a:off x="3780000" y="720720"/>
            <a:ext cx="270000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E564CF-67EA-40F8-B58C-DF744449341C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35AFE9-DD05-4D94-9E07-B8213C07E72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"/>
          <p:cNvSpPr/>
          <p:nvPr/>
        </p:nvSpPr>
        <p:spPr>
          <a:xfrm>
            <a:off x="0" y="0"/>
            <a:ext cx="1008072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9000"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NSimSun"/>
              </a:rPr>
              <a:t>Следующим этапом, я заполнила наш мини — сад остатками земли, оставив, примерно 2 см. от края емкости, чтобы дополнить украшением нашу композицию. Проделала небольшое отверстие ложкой в земле для нашего растения. Стряхнула лишнюю землю с корня кактуса и аккуратно посадила в заготовленное отверсти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36360" y="720720"/>
            <a:ext cx="2303640" cy="4319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"/>
          <p:cNvPicPr/>
          <p:nvPr/>
        </p:nvPicPr>
        <p:blipFill>
          <a:blip r:embed="rId2"/>
          <a:stretch/>
        </p:blipFill>
        <p:spPr>
          <a:xfrm>
            <a:off x="2519280" y="720720"/>
            <a:ext cx="2340000" cy="4319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"/>
          <p:cNvPicPr/>
          <p:nvPr/>
        </p:nvPicPr>
        <p:blipFill>
          <a:blip r:embed="rId3"/>
          <a:stretch/>
        </p:blipFill>
        <p:spPr>
          <a:xfrm>
            <a:off x="5040360" y="720720"/>
            <a:ext cx="2340000" cy="4319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"/>
          <p:cNvPicPr/>
          <p:nvPr/>
        </p:nvPicPr>
        <p:blipFill>
          <a:blip r:embed="rId4"/>
          <a:stretch/>
        </p:blipFill>
        <p:spPr>
          <a:xfrm>
            <a:off x="7574040" y="720720"/>
            <a:ext cx="250668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32F92D-7F37-418F-A17A-FF7ADCC976B0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F35D83-EACE-4D8B-ACB7-88DAAA0EA8A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"/>
          <p:cNvSpPr/>
          <p:nvPr/>
        </p:nvSpPr>
        <p:spPr>
          <a:xfrm>
            <a:off x="0" y="0"/>
            <a:ext cx="1008072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NSimSun"/>
              </a:rPr>
              <a:t>Далее поверхность земли еще раз присыпала декоративным цветным песком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NSimSun"/>
              </a:rPr>
              <a:t>выложила ракушки, мох. Таким образом, я создавала берег мор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3780000" y="720720"/>
            <a:ext cx="2519280" cy="4319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"/>
          <p:cNvPicPr/>
          <p:nvPr/>
        </p:nvPicPr>
        <p:blipFill>
          <a:blip r:embed="rId2"/>
          <a:stretch/>
        </p:blipFill>
        <p:spPr>
          <a:xfrm>
            <a:off x="7020000" y="720720"/>
            <a:ext cx="2519280" cy="4319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"/>
          <p:cNvPicPr/>
          <p:nvPr/>
        </p:nvPicPr>
        <p:blipFill>
          <a:blip r:embed="rId3"/>
          <a:stretch/>
        </p:blipFill>
        <p:spPr>
          <a:xfrm>
            <a:off x="539640" y="720720"/>
            <a:ext cx="251964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7ED4EE-6E6E-4EF0-8A81-1EDD35654A75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6BA5DF-FE6B-4E86-8DAA-CCD9549507F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"/>
          <p:cNvSpPr/>
          <p:nvPr/>
        </p:nvSpPr>
        <p:spPr>
          <a:xfrm>
            <a:off x="0" y="0"/>
            <a:ext cx="1008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 меня получился свой собственный оригинальный кусочек живой природы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не кажется, что каждый, кто увидит этот растительный мир, непременно захочет сделать такое же чудо!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3419640" y="720720"/>
            <a:ext cx="3419280" cy="4319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"/>
          <p:cNvPicPr/>
          <p:nvPr/>
        </p:nvPicPr>
        <p:blipFill>
          <a:blip r:embed="rId2"/>
          <a:stretch/>
        </p:blipFill>
        <p:spPr>
          <a:xfrm>
            <a:off x="179280" y="720720"/>
            <a:ext cx="2880000" cy="4319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"/>
          <p:cNvPicPr/>
          <p:nvPr/>
        </p:nvPicPr>
        <p:blipFill>
          <a:blip r:embed="rId3"/>
          <a:stretch/>
        </p:blipFill>
        <p:spPr>
          <a:xfrm>
            <a:off x="7199280" y="720720"/>
            <a:ext cx="270036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429D00-4499-4DB8-8BB2-C7618DEE9FE4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AEE225-F192-4DBD-8981-64AB5F4A957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179280" y="539640"/>
            <a:ext cx="9539280" cy="47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just">
              <a:lnSpc>
                <a:spcPct val="150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В своей работе я хотела создать максимально комфортные условия для растения и красивую композицию, для того чтобы украсить интерьер моей комнаты. В итоге получился кусочек морского берега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Глядя на свой мини - сад, я вспоминаю семейное путешествие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Цель проекта достигнута. Гипотеза доказана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В домашних условиях можно создать прекрасный мини — сад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Спасибо за внимание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A650E6-466D-4AB5-A0C4-2A753DC1D11C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1AE56A-112B-45FE-B8C0-335DB46959C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1"/>
          <p:cNvSpPr/>
          <p:nvPr/>
        </p:nvSpPr>
        <p:spPr>
          <a:xfrm>
            <a:off x="179280" y="0"/>
            <a:ext cx="558000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640" bIns="45000" anchor="t">
            <a:normAutofit/>
          </a:bodyPr>
          <a:p>
            <a:pPr>
              <a:lnSpc>
                <a:spcPct val="93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ктуальность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NSimSu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NSimSu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NSimSun"/>
              </a:rPr>
              <a:t>Каждый из нас любит цветы. Многие выращивают их дома. Зачастую, цветы требуют тщательный уход. В настоящее время люди создают флорариумы, чтобы посадить растение и при этом не прилагать больших усилий для ухода за ни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лорариум (мини - сад) – композиция из маленьких растений, камней, песка, искусственного декора, помещенной в прозрачную емкость (из стекла или пластика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ход и наблюдение за мини - садом интересен и взрослым, и детям. При его создании можно проявить неограниченную фантазию. Именно поэтому меня заинтересовала эта тем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5759280" y="736560"/>
            <a:ext cx="4319640" cy="430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12FA45-4A11-4EBD-A4E6-F5EBC7127BE2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1AD844-3589-43DD-AA8F-59396847BA7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"/>
          <p:cNvSpPr/>
          <p:nvPr/>
        </p:nvSpPr>
        <p:spPr>
          <a:xfrm>
            <a:off x="720720" y="720720"/>
            <a:ext cx="899964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здание флорариума и освоение техники создания композиций для мини - сад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Изучить информацию по теме исследов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Изучить особенности создания композиций для мини - сада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оздать флорариум «В гостях у моря!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 исследования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ини-сад в домашних условия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исследования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лорариу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ный продукт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крытый флорариум «В гостях у моря!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домашних условиях возможно создать мини-са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сследования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литературы, наблюдение, интервью, эксперимен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E0F2BD-1556-464D-AFD1-91B56D19DEA6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A300DD-1344-4B24-8957-3E8C176C39F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"/>
          <p:cNvSpPr/>
          <p:nvPr/>
        </p:nvSpPr>
        <p:spPr>
          <a:xfrm>
            <a:off x="179280" y="360360"/>
            <a:ext cx="9720360" cy="16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NSimSun"/>
              </a:rPr>
              <a:t>«Возможно ли создать мини — сад в домашних условиях?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7105680" y="725400"/>
            <a:ext cx="2427120" cy="4310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2"/>
          <a:stretch/>
        </p:blipFill>
        <p:spPr>
          <a:xfrm>
            <a:off x="720720" y="1800360"/>
            <a:ext cx="594036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5F4109-0087-406C-9B63-5B9BEA7BE46C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ECB075-A623-45E2-AB49-4D303FF16E5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"/>
          <p:cNvSpPr/>
          <p:nvPr/>
        </p:nvSpPr>
        <p:spPr>
          <a:xfrm>
            <a:off x="179280" y="900000"/>
            <a:ext cx="953928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just">
              <a:lnSpc>
                <a:spcPct val="93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NSimSun"/>
              </a:rPr>
              <a:t>Флорариум — это прозрачная ёмкость из стекла или пластика закрытого, частично закрытого или открытого типа, в которую помещаются раст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NSimSun"/>
              </a:rPr>
              <a:t>Можно создавать в стеклянном сосуде настоящие природные зоны в миниатюре: горы, пустыни, тропики, море или частичку дремучего лес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NSimSun"/>
              </a:rPr>
              <a:t>По сути, флорариум — это тот же аквариум, но, вместо воды и рыбок, в него заполняют камни, песок, различные элементы для декора и растения маленького разме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A6870C-25AA-4EBC-88D1-0085EB6CE29D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870378-F1A4-46A2-A58D-65011F67334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"/>
          <p:cNvSpPr/>
          <p:nvPr/>
        </p:nvSpPr>
        <p:spPr>
          <a:xfrm>
            <a:off x="179280" y="720720"/>
            <a:ext cx="9720360" cy="42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9000"/>
          </a:bodyPr>
          <a:p>
            <a:pPr algn="just"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лорариумы бывают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закрыт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мкость плотно закрывается крышкой или дверц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открыт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 них есть отверстие в верхней части или сбок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рост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х еще называют мини-флорариумами. Они отличаются простотой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композиции, небольшим объемом емкости и количеством растений (1-3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ложн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ни имитируют кусочек леса, пустыни, гор, джунглей, сада, мор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одвесн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х подвешивают с помощью крючков и веревк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астенн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ни напоминают «живые» картины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астольным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Они размещаются на горизонтальной поверхности (на столе, тумбочке, подоконнике, полке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апольн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ми обычно декорируют общественные места: рестораны, торговые центры, салоны, оте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A09862-A01D-4DE5-B455-98B323DEB6DB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18E5CA-0C4D-4971-93CE-37B5D58A152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"/>
          <p:cNvSpPr/>
          <p:nvPr/>
        </p:nvSpPr>
        <p:spPr>
          <a:xfrm>
            <a:off x="179280" y="900000"/>
            <a:ext cx="9720360" cy="40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9000"/>
          </a:bodyPr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Для самостоятельного изготовления флорариума Вам понадобится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прозрачная емкость (стеклянная или пластиковая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земл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песок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растени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декоративные элементы. Это могут быть мхи, цветное стекло, камни, ракушки, различные фигурки, природные материалы (веточки, сухоцветы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F6862A-0FD1-4836-A964-934138975093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82938A-A237-46C4-9F49-4C5942F61E4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"/>
          <p:cNvSpPr/>
          <p:nvPr/>
        </p:nvSpPr>
        <p:spPr>
          <a:xfrm>
            <a:off x="179280" y="720720"/>
            <a:ext cx="972036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Советы по уходу за мини — садом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не оставляйте флорариум под прямыми солнечными лучам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регулярно очищайте растения от пожухлых листьев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не перебарщивайте с поливом, можно опрыскивать растение при помощи пульверизатор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почву нужно менять каждые 2-3 год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если растение чрезмерно подросло нужно его обновить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1C797C-160F-4185-859E-C0C79268F701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A487C0-6490-472A-93F6-1558649778A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"/>
          <p:cNvSpPr/>
          <p:nvPr/>
        </p:nvSpPr>
        <p:spPr>
          <a:xfrm>
            <a:off x="0" y="6480"/>
            <a:ext cx="100807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Для создания флорариума «В гостях у моря!» я выбрала прозрачную стеклянную емкость, геометрической формы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1440000" y="720720"/>
            <a:ext cx="2700360" cy="4319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2"/>
          <a:stretch/>
        </p:blipFill>
        <p:spPr>
          <a:xfrm>
            <a:off x="5219640" y="720720"/>
            <a:ext cx="4319640" cy="431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1-26T13:05:50Z</dcterms:created>
  <dc:creator/>
  <dc:description/>
  <dc:language>en-US</dc:language>
  <cp:lastModifiedBy>Админ</cp:lastModifiedBy>
  <dcterms:modified xsi:type="dcterms:W3CDTF">2024-01-30T07:51:48Z</dcterms:modified>
  <cp:revision>13</cp:revision>
  <dc:subject/>
  <dc:title>Blue Curve</dc:title>
</cp:coreProperties>
</file>